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C2C-4416-4F08-9892-42CB1CFE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58-CC15-4CD9-A01D-B5121A45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37E-1054-499D-88C2-364B1481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7F1-D0FC-4C4F-AF92-A743D331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E83-C62D-404A-9B95-7435B6D5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D19-BED2-4839-A854-AEA509A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DC1-FBB9-485B-BA92-6ADD5D5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BDB-29D0-46CA-ABB6-0B851A60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9DC-6556-4095-9C2F-252CF8B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9EEA-0338-4BCF-B11E-AE6E60C0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67C-ED06-43E7-823E-7C4D735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79E-3539-4CC8-89CB-5A7038A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1FE0-EB37-4940-B528-48C8C112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 a “Sn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say the word that appears before I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32:00Z</dcterms:created>
  <dc:creator>Wake County Public Schools</dc:creator>
  <dc:description/>
  <dc:language>en-US</dc:language>
  <cp:lastModifiedBy>jabdella</cp:lastModifiedBy>
  <dcterms:modified xsi:type="dcterms:W3CDTF">2010-02-14T18:42:58Z</dcterms:modified>
  <cp:revision>3</cp:revision>
  <dc:subject/>
  <dc:title>Words in a “Snap”</dc:title>
</cp:coreProperties>
</file>